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35.wmf" ContentType="image/x-wmf"/>
  <Override PartName="/ppt/media/image8.jpeg" ContentType="image/jpeg"/>
  <Override PartName="/ppt/media/image13.wmf" ContentType="image/x-wmf"/>
  <Override PartName="/ppt/media/image10.jpeg" ContentType="image/jpeg"/>
  <Override PartName="/ppt/media/image29.wmf" ContentType="image/x-wmf"/>
  <Override PartName="/ppt/media/image11.png" ContentType="image/png"/>
  <Override PartName="/ppt/media/image31.wmf" ContentType="image/x-wmf"/>
  <Override PartName="/ppt/media/image6.wmf" ContentType="image/x-wmf"/>
  <Override PartName="/ppt/media/image36.wmf" ContentType="image/x-wmf"/>
  <Override PartName="/ppt/media/image12.jpeg" ContentType="image/jpeg"/>
  <Override PartName="/ppt/media/image34.jpeg" ContentType="image/jpeg"/>
  <Override PartName="/ppt/media/image38.wmf" ContentType="image/x-wmf"/>
  <Override PartName="/ppt/media/image30.jpeg" ContentType="image/jpeg"/>
  <Override PartName="/ppt/media/image37.wmf" ContentType="image/x-wmf"/>
  <Override PartName="/ppt/media/image7.wmf" ContentType="image/x-wmf"/>
  <Override PartName="/ppt/media/image20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128E-B824-40B4-8051-2C1854292442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D702-BE46-4BED-B891-035DA89D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471C-4E31-47B9-A4E3-BD200A40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37B6-3869-4F4A-AFE4-2BFBE470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7BA5-2782-43D7-9C37-B5101D99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E3E9-62AD-4AA4-9A01-3DAD1378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9BC4-8C4B-420E-A47B-697D30E3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534E-60A2-402A-A64A-4203645E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756B-B376-4D65-838B-D2271C93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BDA2-0C01-4302-9E66-98C3C855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BF50-A561-4495-9E61-E6789BAC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EC1A-D79D-44C2-9723-F8AF0CF9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2F5-0F47-45D9-A747-BBAA5DA9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61B3-CFA0-49C4-9700-505C2600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49BE-CB41-4F05-AC1A-0F36B0C0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F285-F4BC-40B0-B22B-A3DAD05A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F18D-C722-4AE9-A596-AF321409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6EC5-891D-4554-9DC0-C0567428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AC2CD-1325-4050-9A40-8061F90F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CF3AA-CFB6-44E7-BEE9-2AE02CDD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BAFB7-0156-4263-88C2-C24519B0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A3414-136D-4BA6-ADE5-3EA36BB1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0743F-7149-451D-B78D-C531B32B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E4D-6F98-40AC-B00C-C4A8FA9E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DB86B-F8A5-4850-AD78-73281390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17F6F-7408-4307-A73A-29DA1C35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3804D-637F-4416-9DDC-8CE16C40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BD5D8-827E-48AA-B620-DB60C779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D1510-98BC-46C7-9417-78DA5E3E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DDF4F-3861-4076-82DF-0E938D90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BBA05-378E-4EB4-8C04-B9966709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66795-B244-4DF3-B34D-E179C443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43DB7-5161-45DB-9FE1-0ECE5BB6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C2D24-0F26-4259-85EB-7E403503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10B-86A4-4474-9E16-E0DC4A30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78024-AF3C-4822-8A90-C03C62BA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B5847-E579-4DA0-9DDD-5BF5FFEF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A8062-5320-4FA5-8F56-3E785847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32E56-74C2-4A74-B965-4F361034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590BD-2BA5-49A7-8BE3-25EC7490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EC56A-59F7-447D-83DF-26429692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43B3A-885C-4C03-BBCB-DE6EF63C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9A9DF-D634-44E9-8036-2A22506A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8D760-FF0C-44E1-A6C4-585ED6FF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4182E-C235-4996-B8A2-FA2FB78D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6A72-D24C-41DC-B423-C74744BA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E9912-9C0E-40AA-84B6-45479782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4E4ED-1F03-4211-B745-3C18B90B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B507C-FF95-4312-8471-942F4011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E2854-90E9-459A-AC2B-783E486E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9450B-0325-4FF5-9F65-9A38FB81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5020C-C932-4932-830B-50369351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F10A0-8659-4C55-9E23-CCD0E27F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F2A94-58AD-4E41-A28D-10A661D1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39AAA-FD0C-4537-B133-7AAA9773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E268E-F919-48FA-ACCD-4C464480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F601-678E-4B4F-93EC-B5375913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A556D-BD34-4675-B8C2-1D5B7964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8773-9A2A-4635-BD79-F6CD4F82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91A0-B3AB-45FE-AC0F-37194D78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055-F984-46C3-9488-EF27C4DE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6821-1235-494C-9844-CAD5F9F54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EDC2-AFE5-4CA3-84D3-A81A1835E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9174-5F27-4DD7-B28C-C76D4098F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1974-3BEA-4271-A9FB-B85E83C7F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A5E6-B9ED-4D9E-8F2F-6BBFABA70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79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0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87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29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908000" y="115920"/>
            <a:ext cx="7093080" cy="40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PUNO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0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60720" y="71280"/>
            <a:ext cx="6875280" cy="76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340000" y="-2700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10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n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17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6923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CAO POR PRINCIPALES DEPARTAMENTOS 1990-2003 (Miles T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80" y="836640"/>
            <a:ext cx="9142920" cy="6023160"/>
            <a:chOff x="1080" y="836640"/>
            <a:chExt cx="9142920" cy="6023160"/>
          </a:xfrm>
        </p:grpSpPr>
        <p:graphicFrame>
          <p:nvGraphicFramePr>
            <p:cNvPr id="324" name=""/>
            <p:cNvGraphicFramePr/>
            <p:nvPr/>
          </p:nvGraphicFramePr>
          <p:xfrm>
            <a:off x="206280" y="836640"/>
            <a:ext cx="8937720" cy="577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6280" y="836640"/>
                      <a:ext cx="8937720" cy="577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"/>
            <p:cNvSpPr/>
            <p:nvPr/>
          </p:nvSpPr>
          <p:spPr>
            <a:xfrm>
              <a:off x="1080" y="6400800"/>
              <a:ext cx="217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1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3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9" dur="500"/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219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Pu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ranos (Quinua, Cañihua, Hab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lanta Medici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rutas y Cítric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nes y Derivad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jidos Artesa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na de Ovino y Fibra de Alpa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8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2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4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8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2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500"/>
                            </p:stCondLst>
                            <p:childTnLst>
                              <p:par>
                                <p:cTn id="4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0" dur="5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8600" y="2997360"/>
            <a:ext cx="8915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-5400" y="634032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40000" y="-10044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ZINC POR DEPARTAMENTOS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907920"/>
          <a:ext cx="914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-5400" y="643716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3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LATA POR DEPARTAMENTOS</a:t>
            </a:r>
            <a:br>
              <a:rPr sz="1200"/>
            </a:b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1990-2004*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40" y="907920"/>
          <a:ext cx="914112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907920"/>
                    <a:ext cx="914112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318360"/>
            <a:ext cx="31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547640" y="44280"/>
            <a:ext cx="7596360" cy="93348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VENTA DE BOLETOS TURISTICOS A VISITANTES NACIONALES Y EXTRANJEROS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2002 – jul 2004 (N° DE BOLETO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1080" y="1047600"/>
            <a:ext cx="8832240" cy="5709960"/>
            <a:chOff x="91080" y="1047600"/>
            <a:chExt cx="8832240" cy="5709960"/>
          </a:xfrm>
        </p:grpSpPr>
        <p:grpSp>
          <p:nvGrpSpPr>
            <p:cNvPr id="376" name=""/>
            <p:cNvGrpSpPr/>
            <p:nvPr/>
          </p:nvGrpSpPr>
          <p:grpSpPr>
            <a:xfrm>
              <a:off x="91080" y="1047600"/>
              <a:ext cx="8832240" cy="5709960"/>
              <a:chOff x="91080" y="1047600"/>
              <a:chExt cx="8832240" cy="5709960"/>
            </a:xfrm>
          </p:grpSpPr>
          <p:sp>
            <p:nvSpPr>
              <p:cNvPr id="377" name=""/>
              <p:cNvSpPr/>
              <p:nvPr/>
            </p:nvSpPr>
            <p:spPr>
              <a:xfrm>
                <a:off x="91080" y="6237360"/>
                <a:ext cx="225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uente: OFEC-CUSC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laboración: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inform@cció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78" name=""/>
              <p:cNvGraphicFramePr/>
              <p:nvPr/>
            </p:nvGraphicFramePr>
            <p:xfrm>
              <a:off x="162000" y="1047600"/>
              <a:ext cx="8761320" cy="511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7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2000" y="1047600"/>
                        <a:ext cx="8761320" cy="511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80" name=""/>
            <p:cNvSpPr/>
            <p:nvPr/>
          </p:nvSpPr>
          <p:spPr>
            <a:xfrm>
              <a:off x="1733400" y="1736640"/>
              <a:ext cx="67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02                                           2003                          200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225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6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235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239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979640" y="44280"/>
            <a:ext cx="7164360" cy="7750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-7668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PRODUCCION DE PETROLEO POR ZONA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1975 – 2004* (Miles de barril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340320"/>
            <a:ext cx="32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* Datos al mes de julio del 200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981000"/>
          <a:ext cx="9220320" cy="523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1000"/>
                    <a:ext cx="922032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901880" y="907920"/>
            <a:ext cx="985680" cy="762120"/>
          </a:xfrm>
          <a:prstGeom prst="downArrowCallout">
            <a:avLst>
              <a:gd name="adj1" fmla="val 32336"/>
              <a:gd name="adj2" fmla="val 32333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019240"/>
            <a:ext cx="1008000" cy="833400"/>
          </a:xfrm>
          <a:prstGeom prst="downArrowCallout">
            <a:avLst>
              <a:gd name="adj1" fmla="val 30240"/>
              <a:gd name="adj2" fmla="val 3023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64440" y="2612880"/>
            <a:ext cx="979560" cy="74484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3968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62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1127160"/>
          <a:ext cx="9163080" cy="521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7160"/>
                    <a:ext cx="91630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-1800" y="650880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050560" y="-27360"/>
            <a:ext cx="70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ENERGIA ELECTRICA A NIVEL NACIONAL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1985-2004* (Miles GWH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68600" y="2306520"/>
            <a:ext cx="1066680" cy="762120"/>
          </a:xfrm>
          <a:prstGeom prst="downArrowCallout">
            <a:avLst>
              <a:gd name="adj1" fmla="val 34994"/>
              <a:gd name="adj2" fmla="val 34991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30840" y="1268280"/>
            <a:ext cx="1067040" cy="762120"/>
          </a:xfrm>
          <a:prstGeom prst="downArrowCallout">
            <a:avLst>
              <a:gd name="adj1" fmla="val 35005"/>
              <a:gd name="adj2" fmla="val 35002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15:46:07Z</dcterms:modified>
  <cp:revision>1157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2352501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